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517-24F7-447F-BEC2-3BCCDF05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94E-8682-4375-B4CA-97E37B6F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70A-2D82-4F38-8656-FF806DAB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62F-E61D-43B6-9626-4B721DAB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5DA-3758-4654-8E38-2FDF04B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AC9-BBE9-4FF7-8D44-8416F87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7D5-09C7-4AFA-8B1D-860170C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E27-3CFD-4194-8A68-65187C7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103-D327-4CED-9D8D-5FF11D0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39B-0D71-4E18-B44A-C9449FE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C27-1978-4185-9C8F-0C484F5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049-4C84-4E1B-A62F-F471FC7E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4A266-7436-47BB-9A89-AF2557481E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5021E-FB67-4A97-956F-179952678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 0 00 09-13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764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st Line = 5 syllables (word part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0948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7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96880"/>
            <a:ext cx="82296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5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413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the Author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49600"/>
            <a:ext cx="47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student at Georgia State University. I am studying to be an elementary school teacher. I enjoy spending time with my doggy, Muffin. I am thankful to have such a wonderful and supporting m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IMG_0066.JPG"/>
          <p:cNvPicPr/>
          <p:nvPr/>
        </p:nvPicPr>
        <p:blipFill>
          <a:blip r:embed="rId1"/>
          <a:stretch/>
        </p:blipFill>
        <p:spPr>
          <a:xfrm>
            <a:off x="5195880" y="2085840"/>
            <a:ext cx="369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51:32Z</dcterms:created>
  <dc:creator>Meghan Roberts</dc:creator>
  <dc:description/>
  <dc:language>en-US</dc:language>
  <cp:lastModifiedBy>Meghan Roberts</cp:lastModifiedBy>
  <dcterms:modified xsi:type="dcterms:W3CDTF">2010-02-19T20:22:52Z</dcterms:modified>
  <cp:revision>4</cp:revision>
  <dc:subject/>
  <dc:title>Title of your Haiku </dc:title>
</cp:coreProperties>
</file>