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C91D-9CBC-407A-B310-1DFF498B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8B9-0842-4F41-A770-DB2AE957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ED7-C66A-4F14-835D-DA005B82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015-F75C-4601-9FAD-A135C140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72D-D6F2-4E66-999B-27AC74FB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9FB-7C67-4A08-9BA1-CCEF6FAE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CC6-944F-4E81-9CA3-7790EC58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DCE-C4A2-406D-B08C-58907CE4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CB0-565A-4746-9764-796D4166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7EB-5955-4A6E-A407-569566E2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D8C-3FE9-40B4-99D0-8A42DB19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0C5-2559-4071-B704-6160529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8780A-B865-439A-82A1-6BF03E3E5E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75BCE-04D7-4A55-A914-1C4311A27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ntitled 0 00 09-13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. Rob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47640" y="363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st Line = 5 syllables (word parts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40948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7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96880"/>
            <a:ext cx="82296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Line = 5 syllables (word par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41360"/>
            <a:ext cx="82296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te powdery 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et covering the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istens in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the Author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749600"/>
            <a:ext cx="47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a student at Georgia State University. I am studying to be an elementary school teacher. I enjoy spending time with my doggy, Muffin. I am thankful to have such a wonderful and supporting m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IMG_0066.JPG"/>
          <p:cNvPicPr/>
          <p:nvPr/>
        </p:nvPicPr>
        <p:blipFill>
          <a:blip r:embed="rId1"/>
          <a:stretch/>
        </p:blipFill>
        <p:spPr>
          <a:xfrm>
            <a:off x="5195880" y="2085840"/>
            <a:ext cx="36972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51:32Z</dcterms:created>
  <dc:creator>Meghan Roberts</dc:creator>
  <dc:description/>
  <dc:language>en-US</dc:language>
  <cp:lastModifiedBy>Meghan Roberts</cp:lastModifiedBy>
  <dcterms:modified xsi:type="dcterms:W3CDTF">2010-02-19T20:22:52Z</dcterms:modified>
  <cp:revision>4</cp:revision>
  <dc:subject/>
  <dc:title>Title of your Haiku </dc:title>
</cp:coreProperties>
</file>