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33C-B46E-40A2-8F37-CE2A21CC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2AF-158B-42D0-A9DB-D5C37DB9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E1D-7464-4451-B953-F4A34DE9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CD6-EA64-408E-95DA-33CC4BC1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DAD-DE54-4BCB-B396-06C11DE6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F88-032A-41F1-A2C2-E7888788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000-A384-4C2A-A504-C527681F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E96-B052-4ADE-9C9D-6BC63625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DF4-1F9A-4EE4-AFBD-A2776AF8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518-488A-4337-B03A-7B2AF605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1B5-6F28-4AFC-937D-EA49BD6C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A8E-5F92-4C4D-A769-146C2685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6B732-FCE2-4BE1-BE69-3F28EDBDC2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3F8DE-E5F6-4BDB-99F6-2E9AF85B7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Untitled 0 00 09-13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. Rob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4764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st Line = 5 syllables (word parts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409480"/>
            <a:ext cx="82296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 powd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ine = 7 syllables (word par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96880"/>
            <a:ext cx="822960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nket covering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ine = 5 syllables (word par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41360"/>
            <a:ext cx="82296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istens in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2643120"/>
            <a:ext cx="82296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 powd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nket covering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istens in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ut the Author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749600"/>
            <a:ext cx="47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a student at Georgia State University. I am studying to be an elementary school teacher. I enjoy spending time with my doggy, Muffin. I am thankful to have such a wonderful and supporting m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IMG_0066.JPG"/>
          <p:cNvPicPr/>
          <p:nvPr/>
        </p:nvPicPr>
        <p:blipFill>
          <a:blip r:embed="rId1"/>
          <a:stretch/>
        </p:blipFill>
        <p:spPr>
          <a:xfrm>
            <a:off x="5195880" y="2085840"/>
            <a:ext cx="36972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9:51:32Z</dcterms:created>
  <dc:creator>Meghan Roberts</dc:creator>
  <dc:description/>
  <dc:language>en-US</dc:language>
  <cp:lastModifiedBy>Meghan Roberts</cp:lastModifiedBy>
  <dcterms:modified xsi:type="dcterms:W3CDTF">2010-02-19T20:22:52Z</dcterms:modified>
  <cp:revision>4</cp:revision>
  <dc:subject/>
  <dc:title>Title of your Haiku </dc:title>
</cp:coreProperties>
</file>