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970-B552-4975-A8C9-6150DCDF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577-5991-4064-A266-35617A11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C96-4B03-45A8-A6B4-33ADAF80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D17-FA70-4CE5-BB6E-2A3DA540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853-E281-434C-94CF-949ED85F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672-140E-4C67-8F49-95EE1AF7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83FE-81DC-4433-A3B0-3A02989B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BA9-0DBD-4F55-97D4-6207CD37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5850-AEFC-44A1-B9E5-8E2D915B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CD6-C7F4-4FB3-9983-2AB23E1B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EFA-99DF-4EB9-93CB-2B6DE823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296-B674-4946-9629-787C12D2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FA11D-2EAD-4933-A01D-B9ED4ACD0D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EC67A-2D4E-4020-9401-3D72FA1E5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Untitled 0 00 09-13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. Rob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4764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st Line = 5 syllables (word parts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409480"/>
            <a:ext cx="82296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 powd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ine = 7 syllables (word par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96880"/>
            <a:ext cx="822960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nket covering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ine = 5 syllables (word par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41360"/>
            <a:ext cx="82296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istens in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2643120"/>
            <a:ext cx="82296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 powd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nket covering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istens in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ut the Author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749600"/>
            <a:ext cx="47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a student at Georgia State University. I am studying to be an elementary school teacher. I enjoy spending time with my doggy, Muffin. I am thankful to have such a wonderful and supporting m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IMG_0066.JPG"/>
          <p:cNvPicPr/>
          <p:nvPr/>
        </p:nvPicPr>
        <p:blipFill>
          <a:blip r:embed="rId1"/>
          <a:stretch/>
        </p:blipFill>
        <p:spPr>
          <a:xfrm>
            <a:off x="5195880" y="2085840"/>
            <a:ext cx="36972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9:51:32Z</dcterms:created>
  <dc:creator>Meghan Roberts</dc:creator>
  <dc:description/>
  <dc:language>en-US</dc:language>
  <cp:lastModifiedBy>Meghan Roberts</cp:lastModifiedBy>
  <dcterms:modified xsi:type="dcterms:W3CDTF">2010-02-19T20:22:52Z</dcterms:modified>
  <cp:revision>4</cp:revision>
  <dc:subject/>
  <dc:title>Title of your Haiku </dc:title>
</cp:coreProperties>
</file>