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A93-6320-4037-9B36-048EED9E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D10-F94F-4A06-9E17-86D1D7E2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BFC-AB5A-4C2D-A435-B891BF6A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93D-4A5F-4A84-8BF3-BC103F9E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F66-A947-447F-8D7B-70889B63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768-7DED-4647-B05F-8DE96F7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348-1C21-49F1-A3A6-6AA94BD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E20-63EF-461B-8879-53BF2932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31E-2CF2-49E3-9477-4AD3D3B5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A8E-FECB-4823-A154-DF2C1ED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D58-D0E9-47A5-9D0F-715563C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EB8-DB86-480F-B4B2-14BECFD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17F-1348-414B-8577-C8284100B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bib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ine and 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Po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ine and Meghan met each other at the beginning of their educational journey to become elementary school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http://lizaklimenko.files.wordpress.com/2009/03/best-of-friends-poster-c10048568.jpeg"/>
          <p:cNvPicPr/>
          <p:nvPr/>
        </p:nvPicPr>
        <p:blipFill>
          <a:blip r:embed="rId2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Original 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f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white brown and 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ving sweet always c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bby silly girl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5335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han Rob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16/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ECE Literacy Block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98108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asy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cite your sources of information and graph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lways calling m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ch munch yum yum y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nk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chee dac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8"/>
          <p:cNvGrpSpPr/>
          <p:nvPr/>
        </p:nvGrpSpPr>
        <p:grpSpPr>
          <a:xfrm>
            <a:off x="2819520" y="1905120"/>
            <a:ext cx="3429000" cy="558720"/>
            <a:chOff x="2819520" y="1905120"/>
            <a:chExt cx="3429000" cy="558720"/>
          </a:xfrm>
        </p:grpSpPr>
        <p:grpSp>
          <p:nvGrpSpPr>
            <p:cNvPr id="51" name="Group 26"/>
            <p:cNvGrpSpPr/>
            <p:nvPr/>
          </p:nvGrpSpPr>
          <p:grpSpPr>
            <a:xfrm>
              <a:off x="2824200" y="1909800"/>
              <a:ext cx="3419640" cy="549360"/>
              <a:chOff x="2824200" y="1909800"/>
              <a:chExt cx="3419640" cy="549360"/>
            </a:xfrm>
          </p:grpSpPr>
          <p:grpSp>
            <p:nvGrpSpPr>
              <p:cNvPr id="52" name="Group 15"/>
              <p:cNvGrpSpPr/>
              <p:nvPr/>
            </p:nvGrpSpPr>
            <p:grpSpPr>
              <a:xfrm>
                <a:off x="2824200" y="1909800"/>
                <a:ext cx="1192320" cy="274680"/>
                <a:chOff x="2824200" y="1909800"/>
                <a:chExt cx="1192320" cy="274680"/>
              </a:xfrm>
            </p:grpSpPr>
            <p:sp>
              <p:nvSpPr>
                <p:cNvPr id="53" name="Rectangle 8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Rectangle 14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7"/>
              <p:cNvGrpSpPr/>
              <p:nvPr/>
            </p:nvGrpSpPr>
            <p:grpSpPr>
              <a:xfrm>
                <a:off x="4016520" y="1909800"/>
                <a:ext cx="1158840" cy="274680"/>
                <a:chOff x="4016520" y="1909800"/>
                <a:chExt cx="1158840" cy="274680"/>
              </a:xfrm>
            </p:grpSpPr>
            <p:sp>
              <p:nvSpPr>
                <p:cNvPr id="56" name="Rectangle 9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16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19"/>
              <p:cNvGrpSpPr/>
              <p:nvPr/>
            </p:nvGrpSpPr>
            <p:grpSpPr>
              <a:xfrm>
                <a:off x="5175360" y="1909800"/>
                <a:ext cx="1068480" cy="274680"/>
                <a:chOff x="5175360" y="1909800"/>
                <a:chExt cx="1068480" cy="274680"/>
              </a:xfrm>
            </p:grpSpPr>
            <p:sp>
              <p:nvSpPr>
                <p:cNvPr id="59" name="Rectangle 10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8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21"/>
              <p:cNvGrpSpPr/>
              <p:nvPr/>
            </p:nvGrpSpPr>
            <p:grpSpPr>
              <a:xfrm>
                <a:off x="2824200" y="2184480"/>
                <a:ext cx="1192320" cy="274680"/>
                <a:chOff x="2824200" y="2184480"/>
                <a:chExt cx="1192320" cy="274680"/>
              </a:xfrm>
            </p:grpSpPr>
            <p:sp>
              <p:nvSpPr>
                <p:cNvPr id="62" name="Rectangle 11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20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23"/>
              <p:cNvGrpSpPr/>
              <p:nvPr/>
            </p:nvGrpSpPr>
            <p:grpSpPr>
              <a:xfrm>
                <a:off x="4016520" y="2184480"/>
                <a:ext cx="1158840" cy="274680"/>
                <a:chOff x="4016520" y="2184480"/>
                <a:chExt cx="1158840" cy="274680"/>
              </a:xfrm>
            </p:grpSpPr>
            <p:sp>
              <p:nvSpPr>
                <p:cNvPr id="65" name="Rectangle 1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trochee ( /~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25"/>
              <p:cNvGrpSpPr/>
              <p:nvPr/>
            </p:nvGrpSpPr>
            <p:grpSpPr>
              <a:xfrm>
                <a:off x="5175360" y="2184480"/>
                <a:ext cx="1068480" cy="274680"/>
                <a:chOff x="5175360" y="2184480"/>
                <a:chExt cx="1068480" cy="274680"/>
              </a:xfrm>
            </p:grpSpPr>
            <p:sp>
              <p:nvSpPr>
                <p:cNvPr id="68" name="Rectangle 13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24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" name="Rectangle 27"/>
            <p:cNvSpPr/>
            <p:nvPr/>
          </p:nvSpPr>
          <p:spPr>
            <a:xfrm>
              <a:off x="2819520" y="190512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ing a love for food and ea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http://www.motherearthnews.com/uploadedImages/Blogs/Relish!/Food-Safety.jpg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IMAGERY used?  Give examples of similes and metaphors from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 not have any similes or metaph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describes the title in short, simple, text. It tells the poets feelings about the tit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is enjoyable no matter wh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Meghan Roberts</cp:lastModifiedBy>
  <dcterms:modified xsi:type="dcterms:W3CDTF">2010-02-16T19:12:46Z</dcterms:modified>
  <cp:revision>17</cp:revision>
  <dc:subject/>
  <dc:title>Title of Poem</dc:title>
</cp:coreProperties>
</file>