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9B5-404C-4790-A039-31A28C29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F4E-CE96-4957-BAD8-5AB5D651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91A-23A5-466B-90A0-828A17E4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FAC-CD1F-487D-8B48-8C9082DD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C1E-2D9F-442F-8849-0D6DC34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567-AEC6-4F6A-A92A-E95EB77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0EF-AAE9-4FEB-B260-FC0CEA0F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162-C477-4EDD-90DA-C2F87FE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1D2-0553-4D75-925F-5A2B432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5DA-D67B-4D41-B900-89AC18A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200-942F-48DE-BF6B-69900BD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69F-2E6B-41FC-B8E4-70141A6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CEB-A4A2-429E-8AEB-8C1C0BFD6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bib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 and 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Po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ine and Meghan met each other at the beginning of their educational journey to become elementary school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http://lizaklimenko.files.wordpress.com/2009/03/best-of-friends-poster-c10048568.jpeg"/>
          <p:cNvPicPr/>
          <p:nvPr/>
        </p:nvPicPr>
        <p:blipFill>
          <a:blip r:embed="rId2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riginal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f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white brown and 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ing sweet always c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bby silly girl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5335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han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16/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ECE Literacy Block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asy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cite your sources of information and graph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ways calling m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ch munch yum yum y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nk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chee dac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2819520" y="1905120"/>
            <a:ext cx="3429000" cy="558720"/>
            <a:chOff x="2819520" y="1905120"/>
            <a:chExt cx="3429000" cy="558720"/>
          </a:xfrm>
        </p:grpSpPr>
        <p:grpSp>
          <p:nvGrpSpPr>
            <p:cNvPr id="51" name="Group 26"/>
            <p:cNvGrpSpPr/>
            <p:nvPr/>
          </p:nvGrpSpPr>
          <p:grpSpPr>
            <a:xfrm>
              <a:off x="2824200" y="1909800"/>
              <a:ext cx="3419640" cy="549360"/>
              <a:chOff x="2824200" y="1909800"/>
              <a:chExt cx="3419640" cy="549360"/>
            </a:xfrm>
          </p:grpSpPr>
          <p:grpSp>
            <p:nvGrpSpPr>
              <p:cNvPr id="52" name="Group 15"/>
              <p:cNvGrpSpPr/>
              <p:nvPr/>
            </p:nvGrpSpPr>
            <p:grpSpPr>
              <a:xfrm>
                <a:off x="2824200" y="1909800"/>
                <a:ext cx="1192320" cy="274680"/>
                <a:chOff x="2824200" y="1909800"/>
                <a:chExt cx="1192320" cy="274680"/>
              </a:xfrm>
            </p:grpSpPr>
            <p:sp>
              <p:nvSpPr>
                <p:cNvPr id="53" name="Rectangle 8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7"/>
              <p:cNvGrpSpPr/>
              <p:nvPr/>
            </p:nvGrpSpPr>
            <p:grpSpPr>
              <a:xfrm>
                <a:off x="4016520" y="1909800"/>
                <a:ext cx="1158840" cy="274680"/>
                <a:chOff x="4016520" y="1909800"/>
                <a:chExt cx="1158840" cy="274680"/>
              </a:xfrm>
            </p:grpSpPr>
            <p:sp>
              <p:nvSpPr>
                <p:cNvPr id="56" name="Rectangle 9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16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19"/>
              <p:cNvGrpSpPr/>
              <p:nvPr/>
            </p:nvGrpSpPr>
            <p:grpSpPr>
              <a:xfrm>
                <a:off x="5175360" y="1909800"/>
                <a:ext cx="1068480" cy="274680"/>
                <a:chOff x="5175360" y="1909800"/>
                <a:chExt cx="1068480" cy="274680"/>
              </a:xfrm>
            </p:grpSpPr>
            <p:sp>
              <p:nvSpPr>
                <p:cNvPr id="59" name="Rectangle 10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8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21"/>
              <p:cNvGrpSpPr/>
              <p:nvPr/>
            </p:nvGrpSpPr>
            <p:grpSpPr>
              <a:xfrm>
                <a:off x="2824200" y="2184480"/>
                <a:ext cx="1192320" cy="274680"/>
                <a:chOff x="2824200" y="2184480"/>
                <a:chExt cx="1192320" cy="274680"/>
              </a:xfrm>
            </p:grpSpPr>
            <p:sp>
              <p:nvSpPr>
                <p:cNvPr id="62" name="Rectangle 11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20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23"/>
              <p:cNvGrpSpPr/>
              <p:nvPr/>
            </p:nvGrpSpPr>
            <p:grpSpPr>
              <a:xfrm>
                <a:off x="4016520" y="2184480"/>
                <a:ext cx="1158840" cy="274680"/>
                <a:chOff x="4016520" y="2184480"/>
                <a:chExt cx="1158840" cy="274680"/>
              </a:xfrm>
            </p:grpSpPr>
            <p:sp>
              <p:nvSpPr>
                <p:cNvPr id="65" name="Rectangle 1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trochee ( /~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5"/>
              <p:cNvGrpSpPr/>
              <p:nvPr/>
            </p:nvGrpSpPr>
            <p:grpSpPr>
              <a:xfrm>
                <a:off x="5175360" y="2184480"/>
                <a:ext cx="1068480" cy="274680"/>
                <a:chOff x="5175360" y="2184480"/>
                <a:chExt cx="1068480" cy="274680"/>
              </a:xfrm>
            </p:grpSpPr>
            <p:sp>
              <p:nvSpPr>
                <p:cNvPr id="68" name="Rectangle 13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24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Rectangle 27"/>
            <p:cNvSpPr/>
            <p:nvPr/>
          </p:nvSpPr>
          <p:spPr>
            <a:xfrm>
              <a:off x="2819520" y="190512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love for food and e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www.motherearthnews.com/uploadedImages/Blogs/Relish!/Food-Safety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MAGERY used?  Give examples of similes and metaphors from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have any similes or metaph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describes the title in short, simple, text. It tells the poets feelings about the tit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is enjoyable no matter wh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Meghan Roberts</cp:lastModifiedBy>
  <dcterms:modified xsi:type="dcterms:W3CDTF">2010-02-16T19:12:46Z</dcterms:modified>
  <cp:revision>17</cp:revision>
  <dc:subject/>
  <dc:title>Title of Poem</dc:title>
</cp:coreProperties>
</file>