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745-1F8B-45F6-8EA0-8B34E9BD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07A-920B-476F-A3C2-87F0FF57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BC8-88F3-459D-B2AB-06BA819C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B8E-F7A2-4A41-87BC-92793DBB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4C1-C99B-4E9D-BABC-F031A70B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0EA-BC57-4A16-B9F9-21E63211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A18-9059-456A-BBCC-7B5992D0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7ED-59B7-44E7-B7FE-C9BCEF5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30B5-E076-43F3-A440-9DB8047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A7D-B80D-4732-BFF2-6AA6679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22C-9F06-4E7C-8538-9A35A1A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2CB-1370-42FC-B8C7-1CF7C3C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5790-CECF-4551-8DBC-5428ACEB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asybib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 and 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Po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ine and Meghan met each other at the beginning of their educational journey to become elementary school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http://lizaklimenko.files.wordpress.com/2009/03/best-of-friends-poster-c10048568.jpeg"/>
          <p:cNvPicPr/>
          <p:nvPr/>
        </p:nvPicPr>
        <p:blipFill>
          <a:blip r:embed="rId2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riginal P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g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f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 white brown and 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ving sweet always c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bby silly girl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5335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han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16/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 ECE Literacy Block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98108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asyB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cite your sources of information and graph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lways calling my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ch munch yum yum y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nk 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or cold or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chee dac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2819520" y="1905120"/>
            <a:ext cx="3429000" cy="558720"/>
            <a:chOff x="2819520" y="1905120"/>
            <a:chExt cx="3429000" cy="558720"/>
          </a:xfrm>
        </p:grpSpPr>
        <p:grpSp>
          <p:nvGrpSpPr>
            <p:cNvPr id="51" name="Group 26"/>
            <p:cNvGrpSpPr/>
            <p:nvPr/>
          </p:nvGrpSpPr>
          <p:grpSpPr>
            <a:xfrm>
              <a:off x="2824200" y="1909800"/>
              <a:ext cx="3419640" cy="549360"/>
              <a:chOff x="2824200" y="1909800"/>
              <a:chExt cx="3419640" cy="549360"/>
            </a:xfrm>
          </p:grpSpPr>
          <p:grpSp>
            <p:nvGrpSpPr>
              <p:cNvPr id="52" name="Group 15"/>
              <p:cNvGrpSpPr/>
              <p:nvPr/>
            </p:nvGrpSpPr>
            <p:grpSpPr>
              <a:xfrm>
                <a:off x="2824200" y="1909800"/>
                <a:ext cx="1192320" cy="274680"/>
                <a:chOff x="2824200" y="1909800"/>
                <a:chExt cx="1192320" cy="274680"/>
              </a:xfrm>
            </p:grpSpPr>
            <p:sp>
              <p:nvSpPr>
                <p:cNvPr id="53" name="Rectangle 8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4"/>
                <p:cNvSpPr/>
                <p:nvPr/>
              </p:nvSpPr>
              <p:spPr>
                <a:xfrm>
                  <a:off x="2824200" y="190980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7"/>
              <p:cNvGrpSpPr/>
              <p:nvPr/>
            </p:nvGrpSpPr>
            <p:grpSpPr>
              <a:xfrm>
                <a:off x="4016520" y="1909800"/>
                <a:ext cx="1158840" cy="274680"/>
                <a:chOff x="4016520" y="1909800"/>
                <a:chExt cx="1158840" cy="274680"/>
              </a:xfrm>
            </p:grpSpPr>
            <p:sp>
              <p:nvSpPr>
                <p:cNvPr id="56" name="Rectangle 9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16"/>
                <p:cNvSpPr/>
                <p:nvPr/>
              </p:nvSpPr>
              <p:spPr>
                <a:xfrm>
                  <a:off x="4016520" y="190980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19"/>
              <p:cNvGrpSpPr/>
              <p:nvPr/>
            </p:nvGrpSpPr>
            <p:grpSpPr>
              <a:xfrm>
                <a:off x="5175360" y="1909800"/>
                <a:ext cx="1068480" cy="274680"/>
                <a:chOff x="5175360" y="1909800"/>
                <a:chExt cx="1068480" cy="274680"/>
              </a:xfrm>
            </p:grpSpPr>
            <p:sp>
              <p:nvSpPr>
                <p:cNvPr id="59" name="Rectangle 10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8"/>
                <p:cNvSpPr/>
                <p:nvPr/>
              </p:nvSpPr>
              <p:spPr>
                <a:xfrm>
                  <a:off x="5175360" y="190980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21"/>
              <p:cNvGrpSpPr/>
              <p:nvPr/>
            </p:nvGrpSpPr>
            <p:grpSpPr>
              <a:xfrm>
                <a:off x="2824200" y="2184480"/>
                <a:ext cx="1192320" cy="274680"/>
                <a:chOff x="2824200" y="2184480"/>
                <a:chExt cx="1192320" cy="274680"/>
              </a:xfrm>
            </p:grpSpPr>
            <p:sp>
              <p:nvSpPr>
                <p:cNvPr id="62" name="Rectangle 11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20"/>
                <p:cNvSpPr/>
                <p:nvPr/>
              </p:nvSpPr>
              <p:spPr>
                <a:xfrm>
                  <a:off x="2824200" y="21844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23"/>
              <p:cNvGrpSpPr/>
              <p:nvPr/>
            </p:nvGrpSpPr>
            <p:grpSpPr>
              <a:xfrm>
                <a:off x="4016520" y="2184480"/>
                <a:ext cx="1158840" cy="274680"/>
                <a:chOff x="4016520" y="2184480"/>
                <a:chExt cx="1158840" cy="274680"/>
              </a:xfrm>
            </p:grpSpPr>
            <p:sp>
              <p:nvSpPr>
                <p:cNvPr id="65" name="Rectangle 1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trochee ( /~ 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4016520" y="21844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5"/>
              <p:cNvGrpSpPr/>
              <p:nvPr/>
            </p:nvGrpSpPr>
            <p:grpSpPr>
              <a:xfrm>
                <a:off x="5175360" y="2184480"/>
                <a:ext cx="1068480" cy="274680"/>
                <a:chOff x="5175360" y="2184480"/>
                <a:chExt cx="1068480" cy="274680"/>
              </a:xfrm>
            </p:grpSpPr>
            <p:sp>
              <p:nvSpPr>
                <p:cNvPr id="68" name="Rectangle 13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24"/>
                <p:cNvSpPr/>
                <p:nvPr/>
              </p:nvSpPr>
              <p:spPr>
                <a:xfrm>
                  <a:off x="5175360" y="21844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Rectangle 27"/>
            <p:cNvSpPr/>
            <p:nvPr/>
          </p:nvSpPr>
          <p:spPr>
            <a:xfrm>
              <a:off x="2819520" y="190512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ing a love for food and e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www.motherearthnews.com/uploadedImages/Blogs/Relish!/Food-Safety.jpg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MAGERY used?  Give examples of similes and metaphors from the po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have any similes or metaph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em describes the title in short, simple, text. It tells the poets feelings about the tit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is enjoyable no matter wh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Meghan Roberts</cp:lastModifiedBy>
  <dcterms:modified xsi:type="dcterms:W3CDTF">2010-02-16T19:12:46Z</dcterms:modified>
  <cp:revision>17</cp:revision>
  <dc:subject/>
  <dc:title>Title of Poem</dc:title>
</cp:coreProperties>
</file>